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374-B931-409E-8C95-BFC79E81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 9 - Nuclear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Th  ®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4Pa    + 0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91                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1B  +     0 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ron atom in a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igh-energy sta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60Co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60Ni +     0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9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23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N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9Co     +  1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                      0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radioisotope   particl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Producing Radioactive 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6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9Co     +  1n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6Mn   +    4H e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2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balt     neutron            manganese   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radioisotope   particl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?  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0B     +  4He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13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    1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7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Half-Life of a Radioisotop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time for the radiation level to fall (decay) to one-half its initial val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symbo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 number of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 number of protons and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Symbols – notice mass number is on top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sotope          Half lif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1/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x t1/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. Fission VS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35U    +  1n         139Ba  +  94Kr + 3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 of Uranium-235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in reaction – the reaction sustains itself by producing more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H    +     3H             4He    +  1n 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cessive heat can not be contain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tempts at “cold” fusion have FAILED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t” fusion is difficult to cont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       Nucleus split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+ 2  Large amounts of energy relea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Small nuclei form larger nuclei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       Hydrogen nuclei reac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 Uses &amp; Effe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cers – small amounts of radioactive substances used as probes to study internal org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uclear imaging – medical techniques involving trac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 alph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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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n-radioactive particle = neutr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1200"/>
            </a:b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He    or 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Particle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   or     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     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  Radia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Nuclear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ED6-3DD5-48A0-8388-0992D9CD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2A9-C574-4D0E-90BB-4531FD9E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EE0-680D-4335-96CF-2B890B7E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FB4-68FF-42D2-9250-6DC695E5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601-CF60-4B43-9306-648F0E2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07F-D26E-412A-86C1-1B15B44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393-F761-4D91-9D91-0D559AEA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BDD-348C-4FF9-9AD5-A965231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EA3-7179-40CE-92A9-71F04E5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AB1-BCBB-4466-9036-70DA470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8EF-36EE-4FF0-9754-EC1F8CA3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40B-20E4-40A0-8A7A-2C7204A7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C45-79A9-47C5-B827-484700B0986E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Ch 9 - Nuclear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mi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Equ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ing Radioactive Isotop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lf-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uclear Fission and Fu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s &amp; Effe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0" name="Picture 5" descr="bd06719_"/>
          <p:cNvPicPr/>
          <p:nvPr/>
        </p:nvPicPr>
        <p:blipFill>
          <a:blip r:embed="rId1"/>
          <a:stretch/>
        </p:blipFill>
        <p:spPr>
          <a:xfrm>
            <a:off x="4876920" y="3862440"/>
            <a:ext cx="3809880" cy="2927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35520" cy="223056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47680" y="3276720"/>
          <a:ext cx="8763120" cy="11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276720"/>
                    <a:ext cx="8763120" cy="11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deca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 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23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    +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91    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ff9900"/>
                </a:solidFill>
                <a:latin typeface="Arial"/>
              </a:rPr>
              <a:t>beta partic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radi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No change in atomic or mass numb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B  +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5                                 5                 0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boron atom in 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igh-energy sta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666880" y="34290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predict the product, simply remember that the mass number and atomic number are conserve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identity of X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914400" y="2819520"/>
                <a:ext cx="7315200" cy="18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the nuclear equation for the beta emitter Co-60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6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7            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28                -1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819520" y="42670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324480" y="25909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3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7220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6613560" y="217476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8"/>
              <p:cNvSpPr txBox="1"/>
              <p:nvPr/>
            </p:nvSpPr>
            <p:spPr>
              <a:xfrm>
                <a:off x="990720" y="2133720"/>
                <a:ext cx="35812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+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3. Producing Radioactive Isotop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ombardment of atoms produces radioisotop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6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     +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56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n   +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7                      0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25                      2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ffff"/>
                </a:solidFill>
                <a:latin typeface="Arial"/>
              </a:rPr>
              <a:t>= 27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balt     neutron            manganese    alph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tom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radioisotope   particl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276720" y="335268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  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radioactive isotope is produced in the following bombardment of bor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     +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+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5                   2        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7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                        0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itroge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adioisotop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42900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4. Half-Life of a Radioisotop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im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the radiation level to fall (decay) to one-half its initial valu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9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1"/>
          <a:stretch/>
        </p:blipFill>
        <p:spPr>
          <a:xfrm>
            <a:off x="304920" y="2214720"/>
            <a:ext cx="8426160" cy="4414680"/>
          </a:xfrm>
          <a:prstGeom prst="rect">
            <a:avLst/>
          </a:prstGeom>
          <a:ln w="324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Re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Rememb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tons: + char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utrons: neutral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: - charge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10" descr="bd06978_"/>
          <p:cNvPicPr/>
          <p:nvPr/>
        </p:nvPicPr>
        <p:blipFill>
          <a:blip r:embed="rId1"/>
          <a:stretch/>
        </p:blipFill>
        <p:spPr>
          <a:xfrm>
            <a:off x="5791320" y="1523880"/>
            <a:ext cx="1793880" cy="172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3809880" y="3657600"/>
                <a:ext cx="190512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Line 13"/>
          <p:cNvSpPr/>
          <p:nvPr/>
        </p:nvSpPr>
        <p:spPr>
          <a:xfrm flipH="1" flipV="1">
            <a:off x="5486040" y="4495320"/>
            <a:ext cx="1066680" cy="304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251040" y="4791240"/>
            <a:ext cx="2593080" cy="58140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omic symbo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3886200" y="5334120"/>
            <a:ext cx="38088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276720" y="5772240"/>
            <a:ext cx="3733560" cy="10688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tomic numb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umber of prot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3276720" y="4114800"/>
            <a:ext cx="533160" cy="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762120" y="3747960"/>
            <a:ext cx="2514600" cy="204372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ass numb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umber of protons and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609480" y="3048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Nuclear Symbol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– notice mass number is on top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Half-Lif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Isotope          Half lif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4 s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6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-22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2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-12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0 d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-14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7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-23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10 000 000 yea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half life of I-123 is 13 hr.  How much of a 64 mg sample of I-123 is left after 26 hours?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3 hrs     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hou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x t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initial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4m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mount remain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64 mg  x ½  x ½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=  16 mg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7"/>
          <p:cNvSpPr/>
          <p:nvPr/>
        </p:nvSpPr>
        <p:spPr>
          <a:xfrm>
            <a:off x="6858000" y="2209680"/>
            <a:ext cx="2286000" cy="16765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5. Fission VS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Fis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arge nuclei break up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3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3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  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9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r + 3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92                0                   56              36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7543800" y="1295280"/>
            <a:ext cx="1600200" cy="3124440"/>
          </a:xfrm>
          <a:prstGeom prst="irregularSeal2">
            <a:avLst/>
          </a:prstGeom>
          <a:solidFill>
            <a:srgbClr val="ff66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2971800" y="3048120"/>
            <a:ext cx="60948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Picture 8" descr="in00420_"/>
          <p:cNvPicPr/>
          <p:nvPr/>
        </p:nvPicPr>
        <p:blipFill>
          <a:blip r:embed="rId1"/>
          <a:stretch/>
        </p:blipFill>
        <p:spPr>
          <a:xfrm>
            <a:off x="2133720" y="3886200"/>
            <a:ext cx="4800600" cy="27194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Fission of Uranium-23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38088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Chain reac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– the reaction sustains itself by producing more neutr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2057400" y="2309760"/>
            <a:ext cx="5334120" cy="446724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6248520" y="1962000"/>
            <a:ext cx="2895480" cy="22100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Nuclear Fus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usio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mall nuclei comb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+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 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+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1                    1                        2                    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urs in the sun and other sta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391520" y="1733400"/>
            <a:ext cx="1523880" cy="312444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8120" y="3962520"/>
            <a:ext cx="990360" cy="0"/>
          </a:xfrm>
          <a:prstGeom prst="line">
            <a:avLst/>
          </a:prstGeom>
          <a:ln w="2844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880" y="487692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cessive heat can not be contain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tempts at “cold” fusion have FAIL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t” fusion is difficult to cont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6248520" y="1809720"/>
            <a:ext cx="289548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Learning Chec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7391520" y="114300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5867280" y="533520"/>
            <a:ext cx="2895840" cy="22096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 if each of the following ar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ss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2) fus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Nucleus split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+ 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Large amounts of energy relea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Small nuclei form larger nuclei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ydrogen nuclei reac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934320" y="76320"/>
            <a:ext cx="1523880" cy="3124080"/>
          </a:xfrm>
          <a:prstGeom prst="irregularSeal2">
            <a:avLst/>
          </a:prstGeom>
          <a:solidFill>
            <a:srgbClr val="ff99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6. Uses &amp; Effec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diation - treatment of c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uclear medicine - use of radioisotopes in diagnosi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racers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– small amounts of radioactive substances used as probes to study internal orga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uclear imaging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medical techniques involving tracer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od Irradi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od - irradiated with g rays from 60Co or 137C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rradiated milk - shelf life of 3 mo. w/o cooling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DA - approved irradiation of meats and egg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04920" y="2971800"/>
            <a:ext cx="838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49709" t="0" r="0" b="0"/>
          <a:stretch/>
        </p:blipFill>
        <p:spPr>
          <a:xfrm>
            <a:off x="1676520" y="4764240"/>
            <a:ext cx="2361960" cy="1741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4952880" y="4789440"/>
            <a:ext cx="1905120" cy="176364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40561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. Nuclear Emiss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ation comes from the nucleus of an atom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stable nucleus emits a particle or energ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ph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m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radioactive particle = neutr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143000" y="3505320"/>
            <a:ext cx="106668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V="1">
            <a:off x="1905120" y="3276720"/>
            <a:ext cx="2209680" cy="7617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4114800"/>
            <a:ext cx="1828800" cy="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752480" y="4191120"/>
            <a:ext cx="2438640" cy="9144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7"/>
              <p:cNvSpPr txBox="1"/>
              <p:nvPr/>
            </p:nvSpPr>
            <p:spPr>
              <a:xfrm>
                <a:off x="6248520" y="5245200"/>
                <a:ext cx="973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osure Sour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819000" y="6480"/>
            <a:ext cx="7506000" cy="6845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pha Partic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me as a helium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He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    or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prot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wo neutr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eta Particle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 electron emitted from the nucle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   or    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en-US" sz="28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neutron in the nucleus breaks dow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                               1                -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4191120" y="3429000"/>
            <a:ext cx="13716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514600" y="5105520"/>
            <a:ext cx="9907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mma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ure radia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ke an X-ray but comes from the nucleu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7" descr="bd05670_"/>
          <p:cNvPicPr/>
          <p:nvPr/>
        </p:nvPicPr>
        <p:blipFill>
          <a:blip r:embed="rId1"/>
          <a:stretch/>
        </p:blipFill>
        <p:spPr>
          <a:xfrm>
            <a:off x="3505320" y="4191120"/>
            <a:ext cx="1996920" cy="1168200"/>
          </a:xfrm>
          <a:prstGeom prst="rect">
            <a:avLst/>
          </a:prstGeom>
          <a:ln w="0">
            <a:noFill/>
          </a:ln>
        </p:spPr>
      </p:pic>
      <p:sp>
        <p:nvSpPr>
          <p:cNvPr id="8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Shield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alpha – paper, clothing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beta – lab coat, glov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gamma- lead, thick concre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Limit time expose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Keep distance from sourc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7" name="Picture 4" descr="pe02421_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416320"/>
          </a:xfrm>
          <a:prstGeom prst="rect">
            <a:avLst/>
          </a:prstGeom>
          <a:ln w="0">
            <a:noFill/>
          </a:ln>
        </p:spPr>
      </p:pic>
      <p:sp>
        <p:nvSpPr>
          <p:cNvPr id="8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ation Protec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6"/>
          <p:cNvGraphicFramePr/>
          <p:nvPr/>
        </p:nvGraphicFramePr>
        <p:xfrm>
          <a:off x="685800" y="1981080"/>
          <a:ext cx="7335720" cy="437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33572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  Nuclear Equations</a:t>
            </a:r>
            <a:r>
              <a:rPr b="0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reactants and produ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ss numbers must bal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0T20:48:09Z</dcterms:created>
  <dc:creator>Bill Timberlake</dc:creator>
  <dc:description/>
  <dc:language>en-US</dc:language>
  <cp:lastModifiedBy>LEGION</cp:lastModifiedBy>
  <cp:lastPrinted>1999-05-17T20:19:48Z</cp:lastPrinted>
  <dcterms:modified xsi:type="dcterms:W3CDTF">2018-04-03T08:55:06Z</dcterms:modified>
  <cp:revision>86</cp:revision>
  <dc:subject/>
  <dc:title>Chapter 6</dc:title>
</cp:coreProperties>
</file>